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5C124-28F2-4E83-87EA-366D79660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16D03-9C5C-4BC8-B2A1-ABDEC776B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1DEC1-C9CB-4B80-82AE-552389A9B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C4220-4FA0-4DA3-AC90-1E74992AF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3463D6-1501-4516-BAB4-F49F6BBE1A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70DC5-05D8-49D2-9E5F-E238B99C5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867E7-D07C-47EB-83AF-6C89DC850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3D2CE-3369-4A35-8958-19FE3B308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DBA66-723D-4319-A059-50B241C33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ABD67-C2F8-40BE-9C5F-2DAD6BC5A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5FB74-33C2-4BC8-A296-FEA8AAF14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2C405-2B7E-4FAB-B788-331D7C2AA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53068-0F33-46CB-BDD5-88279BA29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D079F-0D57-4E16-ADAC-9762B09CC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3C2A8-76F9-43BA-8729-610772436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4BB4B1-E3F8-4917-84C7-BB60AAFA8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29BFA2-BFAC-4928-87B8-0E860A8C3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D41F342-FE50-4BAF-B14F-DB15D4EE86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08EA681-321C-4CF9-B4F1-61A870CFE3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C1D5DEE-9F84-4813-B7D8-A641FEEECD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3151275-FCB9-469B-BDE7-3AC48E8ACB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D18471A-CCD4-47B1-AF0A-C017CAF096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76376-010A-4762-9A8C-B57E6A7A2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39849D6-0939-4D78-8496-4F2D8341D6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60E06C2-7C88-4E75-8EF8-C5F7D9E8D1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E6DD467-3ACE-42AF-9BA3-3C0FBE7AD0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B7557D-341E-4D59-ACBB-CACEFAA02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20DEB74-CA1F-43BB-8458-92FA0956E6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8A32756-6E0D-4475-BC2F-8573BD38B4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C541524-2B96-406A-8518-D72BDF99E7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AB7C37-56DA-4EAC-B3B7-739CD4A865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FE6992-D240-4093-83C2-109251C291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99B2F1-5456-4B8A-9A27-2A47A3833F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3B44E-6B7E-4328-969E-9F94275DE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B743B7-AAA3-4F38-A579-0499B4CA08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AB7D04-3629-4642-8727-29050C5917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FC28EB-3F2F-475F-8838-B9D6F78E55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4DF656-F5CD-4644-97A9-23F84B4094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5FFAF5-FB3D-4D0F-825B-4F3846569A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0BC5CD-1AC1-40E7-A19E-3247796142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E23D4D-7AAF-4AEE-BFA9-CF8524D989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AB0DF2-DD84-48B9-9157-93AE3BDBDD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A65179-FD33-4C79-995D-7F2C5456B3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DD81727-59BE-4CA9-8D0C-ABF3AAC956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1F189-57F5-408A-95CD-BEA17DD85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3D1F7E7-4E88-48E0-8BA8-B895390FFF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E6B30E3-669F-4B4C-AA11-D663CB60C5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5A66594-4FB2-4517-9760-F88607317F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008FF7E-7FD9-4B15-B581-2784705CAB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ED5C516-C3C3-494E-98A9-8216197982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ECAA392-1C85-41EF-946A-C76C0DCAF3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772CC2B-AC23-47F3-8BAC-A08B282217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887D2D-21E6-4436-BE29-7E0062916B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35FA7D1-6BEF-4A15-AD4D-4C1646F0DB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BBD4962-8A68-4DAE-BC28-24B5235519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59FFC-CBB2-4CE4-9BF8-A5D4A79EB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84DCE65-E4FE-4CB1-8A33-FD0DAE52E3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77D56F0-6370-43DC-A6CE-CEB488F957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72BB165-3745-4A86-86F2-DBD8318FC0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0FE364A-C5AE-4EDC-BBFC-42239CF130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57B5984-B1D1-4A7B-A8B8-37EF45CFF2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A42FFB2-043E-474F-A0A5-B84FFE871B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8DB28DB-B723-4F0C-8073-BAE506CE3E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764AB13-F358-4536-B295-CF66CFDB31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085980B-9485-478D-9A71-494FF0E1DB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B8D8F51-1DA9-452B-BF03-E3373D88FA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60B06-3583-4AE8-ABEF-0DA4EF412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67AFA8C-2BAE-42D2-A8E2-924E91CEEF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B0BEBFF-CD0D-48B5-8F08-79ED632FFB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362007D-1EFF-4B03-BD17-E15E50746B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BFC21E3-57E4-40FB-8B34-1401C71155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2B023B8-5307-46BF-B711-377938DB7A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1E3389E-FE09-4D73-B321-4587FCB4D9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02CEF53-224B-4A0E-9114-7A40CF3619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F4C34D9-066C-4F41-8C15-1165BB0210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2E22169-23DA-4D11-BF8D-9A62700BDC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B30BD30-8950-49CD-A4CA-7E39E69529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33B10-FD17-412D-8D5F-BCAA85352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F7388F7-A9FB-4CE7-813E-6ADAD2A915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EA1069D-0BD9-4B71-A96F-FA14C01BC8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223FD2E-BC96-4B7C-8889-621A6D53CF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858864F-B42B-4CCD-A9F1-751BFD0D51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55344BB-9195-4E7F-8956-EA8B290489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D04A6-5985-4C98-9C99-394AF26AF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EC9A-E639-4E4B-BA3D-FB4485D6CD2A}" type="datetime">
              <a:rPr b="0" lang="es-AR" sz="1200" spc="-1" strike="noStrike">
                <a:solidFill>
                  <a:srgbClr val="424456"/>
                </a:solidFill>
                <a:latin typeface="Century Schoolbook"/>
              </a:rPr>
              <a:t>29/07/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6BCC-18AD-47D0-91D6-1047A98C2623}"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b3b3c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d1d1d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d1d1d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e9e9ed">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b3b3c4">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e9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b3b3c4">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b3b3c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A568-770F-4ED3-83E1-7479BB2B6661}" type="datetime">
              <a:rPr b="0" lang="es-AR" sz="1200" spc="-1" strike="noStrike">
                <a:solidFill>
                  <a:srgbClr val="424456"/>
                </a:solidFill>
                <a:latin typeface="Century Schoolbook"/>
              </a:rPr>
              <a:t>29/07/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0ABD-89F1-4E23-8E4C-44905496FBA7}"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C0225-0DB2-45C2-874E-EF726BD728A7}" type="datetime">
              <a:rPr b="0" lang="es-AR" sz="1200" spc="-1" strike="noStrike">
                <a:solidFill>
                  <a:srgbClr val="424456"/>
                </a:solidFill>
                <a:latin typeface="Century Schoolbook"/>
              </a:rPr>
              <a:t>29/07/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966AA-D0AA-4BB4-B19E-22F16D2E1487}"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56"/>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b3b3c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d1d1d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d1d1d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e9e9ed">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b3b3c4">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e9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b3b3c4">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b3b3c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dede"/>
                </a:solidFill>
                <a:latin typeface="Century Schoolbook"/>
              </a:rPr>
              <a:t>Click to edit the title text format</a:t>
            </a:r>
            <a:endParaRPr b="0" lang="en-US" sz="3000" spc="-1" strike="noStrike">
              <a:solidFill>
                <a:srgbClr val="dedede"/>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edede"/>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A583-6E3C-44E1-8905-EBF3B2C8EF29}" type="datetime">
              <a:rPr b="0" lang="es-AR" sz="1200" spc="-1" strike="noStrike">
                <a:solidFill>
                  <a:srgbClr val="dedede"/>
                </a:solidFill>
                <a:latin typeface="Century Schoolbook"/>
              </a:rPr>
              <a:t>29/07/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AF1E4-53BA-497A-83D1-AC7D6F16FF69}"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19B5-62FC-4048-A45C-DEE76D8365DA}" type="datetime">
              <a:rPr b="0" lang="es-AR" sz="1200" spc="-1" strike="noStrike">
                <a:solidFill>
                  <a:srgbClr val="424456"/>
                </a:solidFill>
                <a:latin typeface="Century Schoolbook"/>
              </a:rPr>
              <a:t>29/07/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525C5-0E72-4C35-A811-D386CC2D9D75}"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6BFF-9279-492D-BE63-860D56F3EEEF}" type="datetime">
              <a:rPr b="0" lang="es-AR" sz="1200" spc="-1" strike="noStrike">
                <a:solidFill>
                  <a:srgbClr val="424456"/>
                </a:solidFill>
                <a:latin typeface="Century Schoolbook"/>
              </a:rPr>
              <a:t>29/07/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9755-2A01-49A8-9274-8BD3FE5E5E21}"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b3b3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68CC-367C-4388-B417-39B56F2326E7}" type="datetime">
              <a:rPr b="0" lang="es-AR" sz="1200" spc="-1" strike="noStrike">
                <a:solidFill>
                  <a:srgbClr val="424456"/>
                </a:solidFill>
                <a:latin typeface="Century Schoolbook"/>
              </a:rPr>
              <a:t>29/07/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7F66-DDFE-4A4E-978F-62F079F1F794}"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57120"/>
            <a:ext cx="6172200" cy="3286080"/>
          </a:xfrm>
          <a:prstGeom prst="rect">
            <a:avLst/>
          </a:prstGeom>
          <a:solidFill>
            <a:srgbClr val="dbdbe9"/>
          </a:solidFill>
          <a:ln w="9360">
            <a:solidFill>
              <a:srgbClr val="21222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entury Schoolbook"/>
              </a:rPr>
              <a:t>LA TRANSFERENCIA DE SALDOS DE LIBRE DISPONIBILIDAD ANTE LAS DDJJ RECTIFICATIVAS</a:t>
            </a:r>
            <a:br>
              <a:rPr sz="2800"/>
            </a:br>
            <a:r>
              <a:rPr b="1" lang="es-AR" sz="2800" spc="-1" strike="noStrike">
                <a:solidFill>
                  <a:srgbClr val="000000"/>
                </a:solidFill>
                <a:latin typeface="Century Schoolbook"/>
              </a:rPr>
              <a:t>RG 1466 Y EL CASO “BUFETE INDUSTRIAL”</a:t>
            </a:r>
            <a:endParaRPr b="0" lang="en-US" sz="2800" spc="-1" strike="noStrike">
              <a:solidFill>
                <a:srgbClr val="424456"/>
              </a:solidFill>
              <a:latin typeface="Century Schoolbook"/>
            </a:endParaRPr>
          </a:p>
        </p:txBody>
      </p:sp>
      <p:sp>
        <p:nvSpPr>
          <p:cNvPr id="352" name="PlaceHolder 2"/>
          <p:cNvSpPr>
            <a:spLocks noGrp="1"/>
          </p:cNvSpPr>
          <p:nvPr>
            <p:ph type="subTitle"/>
          </p:nvPr>
        </p:nvSpPr>
        <p:spPr>
          <a:xfrm>
            <a:off x="2285640" y="4214880"/>
            <a:ext cx="6172200" cy="425520"/>
          </a:xfrm>
          <a:prstGeom prst="rect">
            <a:avLst/>
          </a:prstGeom>
          <a:solidFill>
            <a:srgbClr val="d6d7e0"/>
          </a:solid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entury Schoolbook"/>
              </a:rPr>
              <a:t>HUMBERTO J. BERTAZZA</a:t>
            </a:r>
            <a:endParaRPr b="0" lang="en-US" sz="1800" spc="-1" strike="noStrike">
              <a:solidFill>
                <a:srgbClr val="000000"/>
              </a:solidFill>
              <a:latin typeface="Century Schoolbook"/>
            </a:endParaRPr>
          </a:p>
        </p:txBody>
      </p:sp>
      <p:sp>
        <p:nvSpPr>
          <p:cNvPr id="353" name="2 Subtítulo"/>
          <p:cNvSpPr/>
          <p:nvPr/>
        </p:nvSpPr>
        <p:spPr>
          <a:xfrm>
            <a:off x="2357280" y="6072120"/>
            <a:ext cx="1643400" cy="639720"/>
          </a:xfrm>
          <a:prstGeom prst="rect">
            <a:avLst/>
          </a:prstGeom>
          <a:solidFill>
            <a:srgbClr val="d6d7e0"/>
          </a:soli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entury Schoolbook"/>
              </a:rPr>
              <a:t>CAT</a:t>
            </a:r>
            <a:endParaRPr b="0" lang="en-US" sz="1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entury Schoolbook"/>
              </a:rPr>
              <a:t>09-11-11</a:t>
            </a:r>
            <a:endParaRPr b="0" lang="en-US" sz="14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solidFill>
            <a:srgbClr val="dbdbe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Century Schoolbook"/>
              </a:rPr>
              <a:t>ANTECEDENTES CASO “BUFETE”</a:t>
            </a:r>
            <a:endParaRPr b="0" lang="en-US" sz="3600" spc="-1" strike="noStrike">
              <a:solidFill>
                <a:srgbClr val="424456"/>
              </a:solidFill>
              <a:latin typeface="Century Schoolbook"/>
            </a:endParaRPr>
          </a:p>
        </p:txBody>
      </p:sp>
      <p:sp>
        <p:nvSpPr>
          <p:cNvPr id="355"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DDJJ rectificativa IVA aumentado débito fiscal pero sin impuesto a ingresar.</a:t>
            </a:r>
            <a:endParaRPr b="0" lang="en-US" sz="20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Presentación multinota solicitando convalidación de créditos impositivos para transferir a terceros y comunicar la transferencia de créditos fiscales provenientes de saldos de libre disponibilidad IVA.</a:t>
            </a:r>
            <a:endParaRPr b="0" lang="en-US" sz="20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Div. Gestiones y Devoluciones (D.R. Centro). Autoriza transferencia.</a:t>
            </a:r>
            <a:endParaRPr b="0" lang="en-US" sz="20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Informe inspección. Imposibilidad por haber presentado DDJJ rectificativa (RG 1466, Art. 1, a).</a:t>
            </a:r>
            <a:endParaRPr b="0" lang="en-US" sz="20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Dictamen jurídico. Rechazo solicitud antecedentes inspección.</a:t>
            </a:r>
            <a:endParaRPr b="0" lang="en-US" sz="20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Notificación rechazo. Recurso apelación Art. 74 Ley 11683.</a:t>
            </a:r>
            <a:endParaRPr b="0" lang="en-US" sz="20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Confirmación rechazo solicitud.</a:t>
            </a:r>
            <a:endParaRPr b="0" lang="en-US" sz="20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Impugnación judicial 1º instancia. Desestimación demanda. (Art. 1º RG 1466)</a:t>
            </a:r>
            <a:endParaRPr b="0" lang="en-US" sz="2000" spc="-1" strike="noStrike">
              <a:solidFill>
                <a:srgbClr val="000000"/>
              </a:solidFill>
              <a:latin typeface="Century Schoolbook"/>
            </a:endParaRPr>
          </a:p>
        </p:txBody>
      </p:sp>
      <p:sp>
        <p:nvSpPr>
          <p:cNvPr id="356"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FF08-A9F1-4347-88B7-20FFF3A87E06}"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7972560" cy="1143000"/>
          </a:xfrm>
          <a:prstGeom prst="rect">
            <a:avLst/>
          </a:prstGeom>
          <a:solidFill>
            <a:srgbClr val="dbdbe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Century Schoolbook"/>
              </a:rPr>
              <a:t>ART. 24 2º PÁRRAFO LEY IVA</a:t>
            </a:r>
            <a:endParaRPr b="0" lang="en-US" sz="4000" spc="-1" strike="noStrike">
              <a:solidFill>
                <a:srgbClr val="424456"/>
              </a:solidFill>
              <a:latin typeface="Century Schoolbook"/>
            </a:endParaRPr>
          </a:p>
        </p:txBody>
      </p:sp>
      <p:sp>
        <p:nvSpPr>
          <p:cNvPr id="358" name=""/>
          <p:cNvSpPr txBox="1"/>
          <p:nvPr/>
        </p:nvSpPr>
        <p:spPr>
          <a:xfrm>
            <a:off x="456840" y="1600200"/>
            <a:ext cx="790092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entury Schoolbook"/>
              </a:rPr>
              <a:t>La disposición precedente no se aplicará a los saldos de impuesto a favor del contribuyente emergentes de ingresos directos, los que podrán ser objeto de las compensaciones y acreditaciones previstas por los artículos 35 y 36 de la Ley N° 11.683 texto ordenado en 1978 y sus modificaciones, o en su defecto, le será devuelto o se permitirá su transferencia a terceros responsables en los términos del segundo párrafo del citado artículo 36.</a:t>
            </a:r>
            <a:endParaRPr b="0" lang="en-US" sz="2800" spc="-1" strike="noStrike">
              <a:solidFill>
                <a:srgbClr val="000000"/>
              </a:solidFill>
              <a:latin typeface="Century Schoolbook"/>
            </a:endParaRPr>
          </a:p>
        </p:txBody>
      </p:sp>
      <p:sp>
        <p:nvSpPr>
          <p:cNvPr id="359"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098D2-9EA2-4B7F-A704-43E8888D2149}"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solidFill>
            <a:srgbClr val="dbdbe9"/>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000000"/>
                </a:solidFill>
                <a:latin typeface="Century Schoolbook"/>
              </a:rPr>
              <a:t>POSICIÓN CSN</a:t>
            </a:r>
            <a:endParaRPr b="0" lang="en-US" sz="4800" spc="-1" strike="noStrike">
              <a:solidFill>
                <a:srgbClr val="424456"/>
              </a:solidFill>
              <a:latin typeface="Century Schoolbook"/>
            </a:endParaRPr>
          </a:p>
        </p:txBody>
      </p:sp>
      <p:sp>
        <p:nvSpPr>
          <p:cNvPr id="36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entury Schoolbook"/>
              </a:rPr>
              <a:t>El Art. 24 de la ley de IVA ha sido interpretada como una de las “disposiciones especiales” a que se refiere el Art. 36 de la ley 11683, en tanto autoriza la transferencia de créditos fiscales a favor de terceros responsables (“FM Comercial SA” CSN, 14/6/2001).</a:t>
            </a:r>
            <a:endParaRPr b="0" lang="en-US" sz="3200" spc="-1" strike="noStrike">
              <a:solidFill>
                <a:srgbClr val="000000"/>
              </a:solidFill>
              <a:latin typeface="Century Schoolbook"/>
            </a:endParaRPr>
          </a:p>
        </p:txBody>
      </p:sp>
      <p:sp>
        <p:nvSpPr>
          <p:cNvPr id="362"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21D2C-6F64-41AA-A6BB-A90A876BD199}"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solidFill>
            <a:srgbClr val="dbdbe9"/>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800" spc="-1" strike="noStrike">
                <a:solidFill>
                  <a:srgbClr val="000000"/>
                </a:solidFill>
                <a:latin typeface="Century Schoolbook"/>
              </a:rPr>
              <a:t>ART. 1º RG 1466</a:t>
            </a:r>
            <a:endParaRPr b="0" lang="en-US" sz="4800" spc="-1" strike="noStrike">
              <a:solidFill>
                <a:srgbClr val="424456"/>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entury Schoolbook"/>
              </a:rPr>
              <a:t>A efectos de la convalidación del crédito impositivo a favor del contribuyente y/o responsable originado exclusivamente en el impuesto al valor agregado (artículo 24, segundo párrafo, de la Ley de Impuesto al Valor Agregado, texto ordenado en 1997 y sus modificaciones), su transferencia y su posterior utilización por parte del cesionario, para la cancelación de sus propias deudas impositivas, deberán observarse los requisitos y condiciones que se disponen en la presente. En tal sentido, dicho crédito impositivo sólo podrá resultar de:</a:t>
            </a:r>
            <a:endParaRPr b="0" lang="en-US" sz="2200" spc="-1" strike="noStrike">
              <a:solidFill>
                <a:srgbClr val="000000"/>
              </a:solidFill>
              <a:latin typeface="Century Schoolbook"/>
            </a:endParaRPr>
          </a:p>
          <a:p>
            <a:pPr lvl="1" marL="536400" indent="-268200">
              <a:lnSpc>
                <a:spcPct val="80000"/>
              </a:lnSpc>
              <a:spcBef>
                <a:spcPts val="476"/>
              </a:spcBef>
              <a:buClr>
                <a:srgbClr val="292a45"/>
              </a:buClr>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entury Schoolbook"/>
              </a:rPr>
              <a:t>Declaraciones juradas primitivas o, en su caso, rectificativas destinadas a salvar errores de cálculo, </a:t>
            </a:r>
            <a:endParaRPr b="0" lang="en-US" sz="1900" spc="-1" strike="noStrike">
              <a:solidFill>
                <a:srgbClr val="000000"/>
              </a:solidFill>
              <a:latin typeface="Century Schoolbook"/>
            </a:endParaRPr>
          </a:p>
          <a:p>
            <a:pPr lvl="1" marL="536400" indent="-268200">
              <a:lnSpc>
                <a:spcPct val="80000"/>
              </a:lnSpc>
              <a:spcBef>
                <a:spcPts val="476"/>
              </a:spcBef>
              <a:buClr>
                <a:srgbClr val="292a45"/>
              </a:buClr>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entury Schoolbook"/>
              </a:rPr>
              <a:t>Determinaciones de oficio.</a:t>
            </a:r>
            <a:endParaRPr b="0" lang="en-US" sz="1900" spc="-1" strike="noStrike">
              <a:solidFill>
                <a:srgbClr val="000000"/>
              </a:solidFill>
              <a:latin typeface="Century Schoolbook"/>
            </a:endParaRPr>
          </a:p>
          <a:p>
            <a:pPr lvl="1" marL="536400" indent="-268200">
              <a:lnSpc>
                <a:spcPct val="80000"/>
              </a:lnSpc>
              <a:spcBef>
                <a:spcPts val="476"/>
              </a:spcBef>
              <a:buClr>
                <a:srgbClr val="292a45"/>
              </a:buClr>
              <a:buFont typeface="Century School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entury Schoolbook"/>
              </a:rPr>
              <a:t>Resoluciones administrativas o judiciales, dictadas en recursos o demandas de repetición pasadas en autoridad de cosa juzgada"</a:t>
            </a:r>
            <a:endParaRPr b="0" lang="en-US" sz="1900" spc="-1" strike="noStrike">
              <a:solidFill>
                <a:srgbClr val="000000"/>
              </a:solidFill>
              <a:latin typeface="Century Schoolbook"/>
            </a:endParaRPr>
          </a:p>
        </p:txBody>
      </p:sp>
      <p:sp>
        <p:nvSpPr>
          <p:cNvPr id="365"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1C1B-7008-4022-8BB2-43F8B0AFB512}"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85840" y="142920"/>
            <a:ext cx="8143920" cy="1000080"/>
          </a:xfrm>
          <a:prstGeom prst="rect">
            <a:avLst/>
          </a:prstGeom>
          <a:solidFill>
            <a:srgbClr val="dbdbe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700" spc="-1" strike="noStrike">
                <a:solidFill>
                  <a:srgbClr val="000000"/>
                </a:solidFill>
                <a:latin typeface="Century Schoolbook"/>
              </a:rPr>
              <a:t>CASO “BUFETE INDUSTRIAL ARG SA” CCAF, SALA II, 16/8/2011 (I)</a:t>
            </a:r>
            <a:endParaRPr b="0" lang="en-US" sz="2700" spc="-1" strike="noStrike">
              <a:solidFill>
                <a:srgbClr val="424456"/>
              </a:solidFill>
              <a:latin typeface="Century Schoolbook"/>
            </a:endParaRPr>
          </a:p>
        </p:txBody>
      </p:sp>
      <p:sp>
        <p:nvSpPr>
          <p:cNvPr id="367" name=""/>
          <p:cNvSpPr txBox="1"/>
          <p:nvPr/>
        </p:nvSpPr>
        <p:spPr>
          <a:xfrm>
            <a:off x="214200" y="1213920"/>
            <a:ext cx="8358480" cy="5643720"/>
          </a:xfrm>
          <a:prstGeom prst="rect">
            <a:avLst/>
          </a:prstGeom>
          <a:noFill/>
          <a:ln w="0">
            <a:noFill/>
          </a:ln>
        </p:spPr>
        <p:txBody>
          <a:bodyPr anchor="t">
            <a:normAutofit fontScale="99000"/>
          </a:bodyPr>
          <a:p>
            <a:pPr marL="177480" indent="-1774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Century Schoolbook"/>
              </a:rPr>
              <a:t>La interpretación de la autoridad administrativa - confirmada por el a quo- supone excluir de los autorizados para transferir el crédito fiscal derivado de saldos de libre disponibilidad a los contribuyentes que hubieran presentado declaraciones juradas rectificativas que alteren la base imponible, con sustento en el inc. a) del artículo 1º de la RG 1466.</a:t>
            </a:r>
            <a:endParaRPr b="0" lang="en-US" sz="1700" spc="-1" strike="noStrike">
              <a:solidFill>
                <a:srgbClr val="000000"/>
              </a:solidFill>
              <a:latin typeface="Century Schoolbook"/>
            </a:endParaRPr>
          </a:p>
          <a:p>
            <a:pPr marL="177480" indent="-1774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Century Schoolbook"/>
              </a:rPr>
              <a:t>Sin embargo, de una interpretación armónica del ordenamiento jurídico aplicable, surge que esa condición establecida en la reglamentación no fue prevista por el legislador en las normas de rango superior también citadas, y además supone una lectura parcial de la propia Resolución N° 1466/03 que se viene aplicando.</a:t>
            </a:r>
            <a:endParaRPr b="0" lang="en-US" sz="1700" spc="-1" strike="noStrike">
              <a:solidFill>
                <a:srgbClr val="000000"/>
              </a:solidFill>
              <a:latin typeface="Century Schoolbook"/>
            </a:endParaRPr>
          </a:p>
          <a:p>
            <a:pPr marL="177480" indent="-1774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Century Schoolbook"/>
              </a:rPr>
              <a:t>En efecto, el inciso b) del artículo 1° de esa norma, prevé que el crédito impositivo podría surgir de una determinación de oficio, y el art. 119 anteúltimo párrafo de la ley 11.683 establece que ésta no será necesaria si el contribuyente presenta declaraciones juradas rectificativas que satisfagan la pretensión fiscal.</a:t>
            </a:r>
            <a:endParaRPr b="0" lang="en-US" sz="1700" spc="-1" strike="noStrike">
              <a:solidFill>
                <a:srgbClr val="000000"/>
              </a:solidFill>
              <a:latin typeface="Century Schoolbook"/>
            </a:endParaRPr>
          </a:p>
          <a:p>
            <a:pPr marL="177480" indent="-1774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Century Schoolbook"/>
              </a:rPr>
              <a:t>De lo expuesto se deduce que, si bien el inciso a) del artículo mencionado se refiere a los saldos favorables que surgen de declaraciones juradas primitivas o rectificativas en la medida que hubieran estado destinadas a salvar errores de cálculo, el inciso b) permite contemplar los créditos resultantes de determinaciones de oficio, lo que conduce a considerar comprendidas también a aquéllas acreencias derivadas de las declaraciones juradas rectificativas que no fueron impugnadas por la administración. Es que, si por intermedio de ellas se satisface la pretensión fiscal establecida por medio de una determinación de oficio (art. 119 citado), carece de todo sentido y justificación agravar la situación de un contribuyente cuyas declaraciones no fueron impugnadas y procedió a efectuar posteriores rectificaciones espontáneas de aquéllas.</a:t>
            </a:r>
            <a:endParaRPr b="0" lang="en-US" sz="1700" spc="-1" strike="noStrike">
              <a:solidFill>
                <a:srgbClr val="000000"/>
              </a:solidFill>
              <a:latin typeface="Century Schoolbook"/>
            </a:endParaRPr>
          </a:p>
        </p:txBody>
      </p:sp>
      <p:sp>
        <p:nvSpPr>
          <p:cNvPr id="368"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4CF8-7EED-44F1-83F3-197F6480D8F8}"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85840" y="142920"/>
            <a:ext cx="8143920" cy="1000080"/>
          </a:xfrm>
          <a:prstGeom prst="rect">
            <a:avLst/>
          </a:prstGeom>
          <a:solidFill>
            <a:srgbClr val="dbdbe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700" spc="-1" strike="noStrike">
                <a:solidFill>
                  <a:srgbClr val="000000"/>
                </a:solidFill>
                <a:latin typeface="Century Schoolbook"/>
              </a:rPr>
              <a:t>CASO “BUFETE INDUSTRIAL ARG SA” CCAF, SALA II, 16/8/2011 (II)</a:t>
            </a:r>
            <a:endParaRPr b="0" lang="en-US" sz="2700" spc="-1" strike="noStrike">
              <a:solidFill>
                <a:srgbClr val="424456"/>
              </a:solidFill>
              <a:latin typeface="Century Schoolbook"/>
            </a:endParaRPr>
          </a:p>
        </p:txBody>
      </p:sp>
      <p:sp>
        <p:nvSpPr>
          <p:cNvPr id="370" name=""/>
          <p:cNvSpPr txBox="1"/>
          <p:nvPr/>
        </p:nvSpPr>
        <p:spPr>
          <a:xfrm>
            <a:off x="214200" y="1213920"/>
            <a:ext cx="8358480" cy="5643720"/>
          </a:xfrm>
          <a:prstGeom prst="rect">
            <a:avLst/>
          </a:prstGeom>
          <a:noFill/>
          <a:ln w="0">
            <a:noFill/>
          </a:ln>
        </p:spPr>
        <p:txBody>
          <a:bodyPr anchor="t">
            <a:normAutofit/>
          </a:bodyPr>
          <a:p>
            <a:pPr marL="268200" indent="-26820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entury Schoolbook"/>
              </a:rPr>
              <a:t>Desde esta perspectiva, carece de sustento el acto administrativo que rechazó la transferencia fundado exclusivamente en la existencia de declaraciones rectificativas, pues como se ha dicho, éstas pueden sustituir legalmente al acto de determinación de oficio en los casos previstos por la ley.</a:t>
            </a:r>
            <a:endParaRPr b="0" lang="en-US" sz="1900" spc="-1" strike="noStrike">
              <a:solidFill>
                <a:srgbClr val="000000"/>
              </a:solidFill>
              <a:latin typeface="Century Schoolbook"/>
            </a:endParaRPr>
          </a:p>
          <a:p>
            <a:pPr marL="268200" indent="-26820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entury Schoolbook"/>
              </a:rPr>
              <a:t>Que una interpretación correcta del plexo normativo en estudio, debe contemplar lo establecido en el art. 2° de la ley 11.683 en tanto consagra el principio de la realidad económica.</a:t>
            </a:r>
            <a:endParaRPr b="0" lang="en-US" sz="1900" spc="-1" strike="noStrike">
              <a:solidFill>
                <a:srgbClr val="000000"/>
              </a:solidFill>
              <a:latin typeface="Century Schoolbook"/>
            </a:endParaRPr>
          </a:p>
          <a:p>
            <a:pPr marL="268200" indent="-26820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entury Schoolbook"/>
              </a:rPr>
              <a:t>El cómputo de las retenciones o percepciones, a través de las rectificativas mencionadas, no modificó el monto del crédito cedido, el que es inherente a abril de 2001 y fue trasladado sin modificaciones hasta la declaración jurada de IVA de febrero de 2003, cuando fue transferido a terceros.</a:t>
            </a:r>
            <a:endParaRPr b="0" lang="en-US" sz="1900" spc="-1" strike="noStrike">
              <a:solidFill>
                <a:srgbClr val="000000"/>
              </a:solidFill>
              <a:latin typeface="Century Schoolbook"/>
            </a:endParaRPr>
          </a:p>
          <a:p>
            <a:pPr marL="268200" indent="-26820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entury Schoolbook"/>
              </a:rPr>
              <a:t>No se ha observado la existencia y legitimidad del crédito fiscal cedido por el actor, ni se ha indicado de qué modo las rectificativas presentadas incidieron en aquél. De otro lado, tal como se ha expresado "ut supra" la norma reglamentaria en cuyos términos fundó la demandada el rechazo de la solicitud, ha sido interpretada de manera de excluir de los supuestos habilitados por las normas de jerarquía superior, a los contribuyentes que hubieran presentado declaraciones juradas rectificativas, lo que no se condice con el examen del plexo normativo antes desarrollado.</a:t>
            </a:r>
            <a:endParaRPr b="0" lang="en-US" sz="1900" spc="-1" strike="noStrike">
              <a:solidFill>
                <a:srgbClr val="000000"/>
              </a:solidFill>
              <a:latin typeface="Century Schoolbook"/>
            </a:endParaRPr>
          </a:p>
          <a:p>
            <a:pPr marL="268200" indent="-26820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
        <p:nvSpPr>
          <p:cNvPr id="371" name="3 Marcador de número de diapositiva"/>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35E2-E897-41E7-8011-C022F1194D81}" type="slidenum">
              <a:rPr b="1" lang="es-AR"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7T20:48:50Z</dcterms:created>
  <dc:creator>Nancy</dc:creator>
  <dc:description/>
  <dc:language>en-US</dc:language>
  <cp:lastModifiedBy>Nancy</cp:lastModifiedBy>
  <dcterms:modified xsi:type="dcterms:W3CDTF">2011-11-08T13:58:13Z</dcterms:modified>
  <cp:revision>10</cp:revision>
  <dc:subject/>
  <dc:title>LA TRANSFERENCIA DE SALDOS DE LIBRE DISPONIBILIDAD ANTE LAS DDJJ RECTIFICATIVAS RG 1466 Y EL CASO “BUFETE INDUSTRIAL”</dc:title>
</cp:coreProperties>
</file>